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  <p:custShowLst>
    <p:custShow name="20 min overview" id="0">
      <p:sldLst>
        <p:sld r:id="rId5"/>
      </p:sldLst>
    </p:custShow>
    <p:custShow name="Sales Presentation" id="1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6C47DC8-4E08-4E24-A23B-6FD5C986319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35A7602-7093-41A1-AE3A-DB31F463826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B869B96-EF9D-4971-8F97-AE7CCF15F2E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817E62-6EAE-4FF5-8B0B-113A7461502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05B6CCE-9C52-46EC-B81C-FD1B02004FD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F8FCC20-0B50-4183-A03D-73BB6221B67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E953A48-319B-4F50-A0A1-77C3066EEF8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018E217-6DD9-4AB3-BAC6-10806922B4C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6C1AD99-4EF4-42F5-AB20-151FAFCAAD2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27886E-097B-41EA-95D8-BB094A9F6B8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BCE8-4986-4618-B531-03125D04F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4F2-4D29-4A25-A124-2F201B51E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393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800" indent="12600" algn="ctr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136520" indent="12960" algn="ctr">
              <a:spcBef>
                <a:spcPts val="499"/>
              </a:spcBef>
              <a:buClr>
                <a:srgbClr val="ffcc66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479600" indent="12600" algn="ctr">
              <a:spcBef>
                <a:spcPts val="499"/>
              </a:spcBef>
              <a:buClr>
                <a:srgbClr val="ffcc66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karp@ai.sri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e Pathway Tools Software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d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BioCyc Database Collection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Peter D. Karp, Ph.D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pkarp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tp://www.ai.sri.com/pkarp/talks/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, MetaCyc.org, Human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urvey Publicati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arp et al, 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Briefings in Bioinformatic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2010 11:40-79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Signaling Pathway Editor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gnaling pathways use different visual conventions than metabolic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ok and feel based of our tool based on CellDesigner, SBG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ual lay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n’t yet be included in Cellular Overview Diagra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Content Placeholder 4" descr="sigpwy-editor.png"/>
          <p:cNvPicPr/>
          <p:nvPr/>
        </p:nvPicPr>
        <p:blipFill>
          <a:blip r:embed="rId1"/>
          <a:srcRect l="0" t="-71549" r="0" b="-71549"/>
          <a:stretch/>
        </p:blipFill>
        <p:spPr>
          <a:xfrm>
            <a:off x="187200" y="-2560680"/>
            <a:ext cx="8956800" cy="1128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Content Placeholder 4" descr="MAP-kinase.png"/>
          <p:cNvPicPr/>
          <p:nvPr/>
        </p:nvPicPr>
        <p:blipFill>
          <a:blip r:embed="rId1"/>
          <a:srcRect l="-9085" t="0" r="-9085" b="0"/>
          <a:stretch/>
        </p:blipFill>
        <p:spPr>
          <a:xfrm>
            <a:off x="317520" y="243000"/>
            <a:ext cx="8413560" cy="6081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Improved Web Overview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lemented using OpenLay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Zoomable, draggable, searchable, paintab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compounds, reactions, enzymes, genes by name, substring, with autocomple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genes from fi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erimpose omics da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raw connections between a gene and its regulators, regulate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how full diagram or only highlighted ge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Content Placeholder 4" descr="web-cellov-full.png"/>
          <p:cNvPicPr/>
          <p:nvPr/>
        </p:nvPicPr>
        <p:blipFill>
          <a:blip r:embed="rId1"/>
          <a:srcRect l="0" t="-6142" r="0" b="-6142"/>
          <a:stretch/>
        </p:blipFill>
        <p:spPr>
          <a:xfrm>
            <a:off x="236520" y="831960"/>
            <a:ext cx="8823240" cy="549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, zoomed-in 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9" name="Content Placeholder 4" descr="web-cellov-zoomed.png"/>
          <p:cNvPicPr/>
          <p:nvPr/>
        </p:nvPicPr>
        <p:blipFill>
          <a:blip r:embed="rId1"/>
          <a:srcRect l="-6056" t="0" r="-6056" b="0"/>
          <a:stretch/>
        </p:blipFill>
        <p:spPr>
          <a:xfrm>
            <a:off x="343080" y="1003320"/>
            <a:ext cx="861048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Content Placeholder 4" descr="web-regov.png"/>
          <p:cNvPicPr/>
          <p:nvPr/>
        </p:nvPicPr>
        <p:blipFill>
          <a:blip r:embed="rId1"/>
          <a:srcRect l="0" t="-3128" r="0" b="-3128"/>
          <a:stretch/>
        </p:blipFill>
        <p:spPr>
          <a:xfrm>
            <a:off x="131760" y="797040"/>
            <a:ext cx="901224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Popup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1325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ktop Pathway Tools on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how omics popups for a gene, reaction,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also in 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ose from 3 styles: heatmap, bar graph, plo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Picture 8" descr="omics-popups.png"/>
          <p:cNvPicPr/>
          <p:nvPr/>
        </p:nvPicPr>
        <p:blipFill>
          <a:blip r:embed="rId1"/>
          <a:stretch/>
        </p:blipFill>
        <p:spPr>
          <a:xfrm>
            <a:off x="193680" y="3529080"/>
            <a:ext cx="89503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Data Graphing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674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Use Cases for Pathway Tools and BioCyc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velopment of organism-specific DBs (model-organism DBs) that span many biological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eb publishing of those DBs with a powerful set of query and visualization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inferences of metabolic pathways, pathway hole fillers, operons,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isual tools for analysis of 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ools for analysis of biological network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analysis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bolic engineer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is a Web portal for genome and pathway infor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Captures All Bacterial Regulation Mechanis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crip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transcription facto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attenu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l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proteins and small RN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protein activ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covalent modification (e.g., phosphorylation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non-covalent modification (e.g., allosteric inhibitor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: Schema, editing tools, display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Summary Diagra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2" name="Content Placeholder 6" descr="reg-summary-trpD.png"/>
          <p:cNvPicPr/>
          <p:nvPr/>
        </p:nvPicPr>
        <p:blipFill>
          <a:blip r:embed="rId1"/>
          <a:srcRect l="0" t="-71846" r="0" b="-71846"/>
          <a:stretch/>
        </p:blipFill>
        <p:spPr>
          <a:xfrm>
            <a:off x="1914480" y="0"/>
            <a:ext cx="5221440" cy="32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reg-summary-bglG.png"/>
          <p:cNvPicPr/>
          <p:nvPr/>
        </p:nvPicPr>
        <p:blipFill>
          <a:blip r:embed="rId2"/>
          <a:stretch/>
        </p:blipFill>
        <p:spPr>
          <a:xfrm>
            <a:off x="1320840" y="3886200"/>
            <a:ext cx="6175440" cy="157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reg-summary-oppD.png"/>
          <p:cNvPicPr/>
          <p:nvPr/>
        </p:nvPicPr>
        <p:blipFill>
          <a:blip r:embed="rId3"/>
          <a:stretch/>
        </p:blipFill>
        <p:spPr>
          <a:xfrm>
            <a:off x="1569960" y="2365200"/>
            <a:ext cx="5926320" cy="1444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reg-summary-citD.png"/>
          <p:cNvPicPr/>
          <p:nvPr/>
        </p:nvPicPr>
        <p:blipFill>
          <a:blip r:embed="rId4"/>
          <a:stretch/>
        </p:blipFill>
        <p:spPr>
          <a:xfrm>
            <a:off x="257040" y="5532480"/>
            <a:ext cx="8610840" cy="132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ther Recent Enhanc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hases I and II of upgrade to Pathway Tools Web mo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ase III still to co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bility to customize pathway displays via Web site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Customiz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achability Analysis of Metabolic Network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ive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PGDB for an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set of initial metabolit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fer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hat set of products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n b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synthesized by the small-molecule metabolism of the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otivation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ality control for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erify that a known growth medium yields known essential compound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other growth medi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reaction knock-ou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imi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not properly handle compounds required for their own synthesi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utrients needed for reachability may be a superset of those required for growt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77320" y="6324480"/>
            <a:ext cx="304560" cy="38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8381880" y="6477120"/>
            <a:ext cx="304920" cy="380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5360" y="6172200"/>
            <a:ext cx="70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mero and Karp,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acific Symposium on Biocomputing,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lgorithm: Forward Propagation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hrough Production System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reaction becomes a production ru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of the 21 metabolites in the nutrient set becomes an axio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40600" y="2819520"/>
            <a:ext cx="7939080" cy="3694680"/>
            <a:chOff x="840600" y="2819520"/>
            <a:chExt cx="7939080" cy="3694680"/>
          </a:xfrm>
        </p:grpSpPr>
        <p:sp>
          <p:nvSpPr>
            <p:cNvPr id="156" name=""/>
            <p:cNvSpPr/>
            <p:nvPr/>
          </p:nvSpPr>
          <p:spPr>
            <a:xfrm>
              <a:off x="840600" y="281952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utr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1080" y="4267440"/>
              <a:ext cx="15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tabo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o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30880" y="4235760"/>
              <a:ext cx="141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e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79480" y="3313080"/>
              <a:ext cx="5200200" cy="2691000"/>
              <a:chOff x="3579480" y="3313080"/>
              <a:chExt cx="5200200" cy="269100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3579120" y="3312720"/>
                <a:ext cx="4763160" cy="841320"/>
              </a:xfrm>
              <a:custGeom>
                <a:avLst/>
                <a:gdLst>
                  <a:gd name="textAreaLeft" fmla="*/ 833040 w 4763160"/>
                  <a:gd name="textAreaRight" fmla="*/ 3453120 w 476316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17240" y="5162760"/>
                <a:ext cx="4762440" cy="841320"/>
              </a:xfrm>
              <a:custGeom>
                <a:avLst/>
                <a:gdLst>
                  <a:gd name="textAreaLeft" fmla="*/ 833400 w 4762440"/>
                  <a:gd name="textAreaRight" fmla="*/ 3452760 w 476244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2053800">
              <a:off x="2034720" y="3628800"/>
              <a:ext cx="1333440" cy="708120"/>
            </a:xfrm>
            <a:prstGeom prst="rightArrow">
              <a:avLst>
                <a:gd name="adj1" fmla="val 50000"/>
                <a:gd name="adj2" fmla="val 4707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50200">
              <a:off x="1632240" y="414648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3800" y="284184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6160" y="611532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Reacta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75240" y="4092840"/>
              <a:ext cx="1465200" cy="1191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914400" y="1447920"/>
            <a:ext cx="8016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2070000"/>
            <a:ext cx="5197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486400"/>
            <a:ext cx="29718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432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+ B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503280"/>
            <a:ext cx="10058400" cy="825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oming So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/ EcoCyc / HumanCyc will support Web services for data retriev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Phone app for BioCyc / EcoCyc / HumanCyc and other PGDB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R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zanne Paley, Ron Caspi, Ingrid Keseler, Carol Fulcher, Markus Krummenacker, Alex Shearer, Tomer Altman, Joe Dale, Fred Gilham, Pallavi Kaip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co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ulio Collado-Vides, Robert Gunsalus, Ian Pauls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ta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e Rhee, Peifen Zhang, Kate Dreh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ukas Mueller, Anuradha Puj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29200" y="1218960"/>
            <a:ext cx="3772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unding source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Institute of General Medical Scien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Center for Research Resour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849960" y="6019920"/>
            <a:ext cx="90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arn more from BioCyc webinars:  biocyc.org/webinar.s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BioCyc Collection of 673 Pathway/Genome Database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28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643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5744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262160" y="60958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riefings in Bioinformatics 11:40-79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btaining a PGDB for Organism of Interes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curated PG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PGDB in BioCy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eate your ow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ed pathway DBs now exist for most biomedical model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: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GDBs Created Outside SRI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197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2,100+ licensees: 180 groups applying software to 1,600 organisms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accharomyces cerevisiae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, S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135 pathways / 565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Candida albicans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C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us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MGD, Jackson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FlyBase, Harva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nder development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. elegans,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WormBas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rabidopsis thaliana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AIR, 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88 pathways / 2282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PlantCyc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ix 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Solanacea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species, Cornell University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Medicago truncatu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Samuel Roberts Noble Foundati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Cyc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olic En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cyc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lopedia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a representative sample of every experimentally determined metabolic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properties of metabolic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iterature-based DB with extensive references and commenta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now assigns more than twice as many reactions to pathways as does KEG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38920" y="6019920"/>
            <a:ext cx="42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Nucleic Acids Research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Data  -- Version 14.0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05120" y="1447920"/>
          <a:ext cx="5130720" cy="4190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Pathw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,4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4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Enzy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Small Molecu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5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Organis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,8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Cit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2,4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axonomic Distribution of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Pathways – version 13.1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1447920"/>
          <a:ext cx="5130720" cy="35049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Bac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8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Green Pl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Mam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Archa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eter Karp</dc:creator>
  <dc:description/>
  <dc:language>en-US</dc:language>
  <cp:lastModifiedBy>GMOD / NESCent</cp:lastModifiedBy>
  <cp:lastPrinted>2000-01-10T21:27:38Z</cp:lastPrinted>
  <dcterms:modified xsi:type="dcterms:W3CDTF">2010-07-15T16:16:59Z</dcterms:modified>
  <cp:revision>1039</cp:revision>
  <dc:subject/>
  <dc:title>BioCyc</dc:title>
</cp:coreProperties>
</file>